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F5A8-7396-424E-A6C0-210841CAA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76B6-0063-4AEF-A0C2-CB50C0E7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4693-04D1-49F2-98B2-212B00D8B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D23D-1CED-4B3C-AE78-E47A76FF7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C93B-8E03-4FB0-BCC7-2C78292D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741F-0655-4CFC-92C5-59FBD51F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D4CF-FAEE-4C38-B673-7AFDA102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EAF8-812B-42B7-82DD-79E6CE4E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1B11-AC30-4E3D-B875-57BC1ACF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532B-6ECC-4FFF-B8D3-AAB1706C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F8EB-4FC8-4091-82BF-C783FAE1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8D6B-1777-4D6B-BD07-F69090A1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661C-7FA0-4DC2-82B6-91A2310A9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694560" cy="5021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40120" y="3213000"/>
            <a:ext cx="6095880" cy="72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69696"/>
                </a:solidFill>
                <a:latin typeface="comic"/>
              </a:rPr>
              <a:t>                         </a:t>
            </a:r>
            <a:r>
              <a:rPr b="1" lang="en-US" sz="4000" spc="-1" strike="noStrike">
                <a:solidFill>
                  <a:srgbClr val="969696"/>
                </a:solidFill>
                <a:latin typeface="comic"/>
              </a:rPr>
              <a:t>   </a:t>
            </a:r>
            <a:r>
              <a:rPr b="1" lang="bg-BG" sz="4000" spc="-1" strike="noStrike">
                <a:solidFill>
                  <a:srgbClr val="969696"/>
                </a:solidFill>
                <a:latin typeface="comic"/>
              </a:rPr>
              <a:t>63</a:t>
            </a:r>
            <a:r>
              <a:rPr b="1" lang="en-US" sz="4000" spc="-1" strike="noStrike">
                <a:solidFill>
                  <a:srgbClr val="bbe0e3"/>
                </a:solidFill>
                <a:latin typeface="Monotype Corsiv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На Господа Христа благодатта,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любовта на Отца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и общението на Дух Святи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да е с нас всички,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със нас всички! Амин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5564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48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8:13:40Z</dcterms:created>
  <dc:creator>TrifonTrifonow</dc:creator>
  <dc:description/>
  <dc:language>en-US</dc:language>
  <cp:lastModifiedBy>TrifonTrifonow</cp:lastModifiedBy>
  <dcterms:modified xsi:type="dcterms:W3CDTF">2005-11-23T18:19:31Z</dcterms:modified>
  <cp:revision>3</cp:revision>
  <dc:subject/>
  <dc:title>Slide 1</dc:title>
</cp:coreProperties>
</file>